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DED7F-EAB7-4077-9971-A272076C45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EEAD8-9788-4FFD-A623-8B2E8A8B5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0ED-6AFC-49F8-9D7F-430229D4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037-A5B1-40B5-978C-BB552A55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EB9-4368-4975-9C39-8AB3E833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F19-305D-42B1-9505-9BBD3343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46CB-767F-4D24-93EF-27508601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C796-94E5-4B3B-BC8A-268A75D7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53B0-CB57-4695-B859-19E85CCB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A461-7295-495B-BD79-45718420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AD44-16F0-4993-99A7-A9BA5DE8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26EE-0501-49EC-B56A-E9F147F8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1F28-B7B4-448F-9237-C30BB28B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EFE-7363-4960-BDA7-D9887C5D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E468-0AC3-4690-B78E-4DAEA5BC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110C-F143-4ADE-A5EC-178EF7E7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5414-6ABC-41FE-86C1-445CFC7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8127-0981-4EA1-B9BA-BFECB2CF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CD83-0B09-4BC2-A8B8-813CB5DA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B790-A270-437D-9727-F2D25702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0832F-3B71-4A7D-9D43-E9386D2A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EBDA-B8E7-4532-ACF3-7AF25B4E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CE3F-8DE9-4C88-80B7-FD9B7F55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F547-5C77-47DC-B3D7-59DC16C3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F1E-4F68-4E63-B0D1-623484E0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5AA7-6418-416A-9E16-F0F0780E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0C51-ECB4-4DCF-9A28-0E831D25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532F8-8D50-4CEF-97CB-51031F0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1F26-4376-4254-A06A-5E11A492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9E487-82FB-4A8F-8B1C-E620F58B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34B3-66DE-4952-83A5-10445977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7ACD-AB84-4618-BED9-9D2728BA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5CEDC-8EF7-4991-AA20-38B2B067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B97BD-4331-45BC-A7FF-5D0590EB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7D610-1760-494B-B1E9-A55725B1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6A3-F868-4FC0-9F61-68EF986E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6494-7567-4031-9B70-6BB788F5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3BD0C-7CAF-401E-BC19-310B0D23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AB884-9C20-443F-945E-11ABA05A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6EEF2-27B0-4858-945B-492B8A2A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B939D-F9AF-4C69-9D15-411B8A49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BCBB3-6209-451E-8130-22778848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312B3-DA17-48F2-AF02-3987E523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6994D-3244-42E7-AF1B-80BAE32E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3A25-FD0E-4826-B0B9-A919792D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8EF-D0D8-4624-B3C7-CD1D8C98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FA3-C589-423D-BA48-E0513BC2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BEE-1826-4CF3-BED7-704C55DE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E64-4108-4DF9-B715-3F32EE4E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525-06B3-4C8D-9D77-B96D023A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A0BF4-A5E6-4C18-A9A8-C23D2D79B8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2D027-A91A-4D28-8265-32BCEC0D5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F877E-1729-4DC6-A532-F76C78F9F1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0AE27-2070-4B2F-92CF-01F223C5D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175DC-CCA9-4624-85B3-ED681D2C4D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7991C-27DD-4BF2-BC51-44FD19B93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90823-B8AD-452F-AAAE-35EF0637BE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630DB-5C3C-4C0A-B37C-D6F5718EC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LEGION</cp:lastModifiedBy>
  <dcterms:modified xsi:type="dcterms:W3CDTF">2017-07-06T06:32:08Z</dcterms:modified>
  <cp:revision>5</cp:revision>
  <dc:subject/>
  <dc:title>Concept Test</dc:title>
</cp:coreProperties>
</file>